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51B2-A2E1-4952-9379-A3A389E151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Slide for Promethean Story Board</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E19A-0121-4979-A7CA-19CE866B7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D596-1F6B-4234-AC75-80D737B2E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ED9E-FA11-46BB-8E74-86E88F21F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64BE-0E11-4838-8EC7-17D2050E7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B34D-AD36-4023-93F0-BA3432B21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2E59-D2DE-4F6F-B979-803733E70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ges of Innovation that will be expl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2480-D741-43D7-9B7A-75DABDDEC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ed</a:t>
            </a:r>
            <a:r>
              <a:rPr b="1"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Q:  What problem or need existed that gave rise to your innov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udents need a different to learn that provided hands on and interaction.  Lecturing was not an effective way of promoting student learning.</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FFFA-CA5A-4EE5-ABCD-692703E4E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esearch</a:t>
            </a:r>
            <a:r>
              <a:rPr b="1"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Q:  What research organization or people developed a solution to this problem or ne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omethean Planet was founded in 1977 and has grown to accommodate over 6,000 fans and teachers.  It provides teachers with free resources to help students interact with the lesson to add the rigor that they need to advance to the next level of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What were their fi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omethean Planet lead to a website that connected teachers to combine lessons and share lessons from different places around the world to lead to better comprehension among students and lead them to the hands-on activities that they needed to increase learning comprehension and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This lead to teachers Who were the “lead thinkers" for this innovation, and how did they convince a manufacturer to produc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The first innovation was the Smartboard and then the Promethean came about as an upgrade of the Smartboard.  The Pearson textbook company, the educators, and the technology staff, came together to design e-learning and hands on in a new aspect to learning to captivate the learning process for all learners.  From this combination it lead to this type of technology and using lessons from world-wide educators.  The educators have different languages and ways of learning that is wonderful to implement for diversity.</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A689-92B8-49B0-B61E-25451734C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ment</a:t>
            </a:r>
            <a:r>
              <a:rPr b="1" lang="en-US" sz="1200" spc="-1" strike="noStrike">
                <a:solidFill>
                  <a:srgbClr val="000000"/>
                </a:solidFill>
                <a:latin typeface="Calibri"/>
              </a:rPr>
              <a:t>:</a:t>
            </a:r>
            <a:r>
              <a:rPr b="0" lang="en-US" sz="1200" spc="-1" strike="noStrike">
                <a:solidFill>
                  <a:srgbClr val="000000"/>
                </a:solidFill>
                <a:latin typeface="Calibri"/>
              </a:rPr>
              <a:t> Q:  What problems did your innovation encounter in the develop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his innovation had to incorporate lessons, activities, and a way to provide the hands on to make it more creative and responsive.  The innovation has developed a forum where everyone involved in the learning session can discuss problems and have them evaluated by the IT department and brainstormed by all involved in the creation of what should be done.  This allows freedom of choice and new range of experimentation to make the product perform be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Who was the intended audience for your inno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The intended audience was the student to enhance performance but the more the innovation grew it became a target for parties involved.</a:t>
            </a:r>
            <a:br>
              <a:rPr sz="1200"/>
            </a:b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71FE-45B2-4205-BBFA-A0C38A6FE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mmercialization</a:t>
            </a:r>
            <a:r>
              <a:rPr b="1" lang="en-US" sz="1200" spc="-1" strike="noStrike">
                <a:solidFill>
                  <a:srgbClr val="000000"/>
                </a:solidFill>
                <a:latin typeface="Calibri"/>
              </a:rPr>
              <a:t>:</a:t>
            </a:r>
            <a:r>
              <a:rPr b="0" lang="en-US" sz="1200" spc="-1" strike="noStrike">
                <a:solidFill>
                  <a:srgbClr val="000000"/>
                </a:solidFill>
                <a:latin typeface="Calibri"/>
              </a:rPr>
              <a:t> Q:  Describe the production, manufacturing, packaging, marketing, and distribution of your inno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w.prometheanplanet.com is the world’s largest interactive whiteboard community with over 40,000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site enables educators from all over the world and with different language barriers to play an active role in the performance of this site and the products that are made and shipped out to companies and schools.</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3710-0B25-4CBE-A66E-9CBC313D3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ine provided by:  www.prometheanworld.com</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8DCA-8551-49A8-AAC4-F4B5DBAC3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9F5F-9C1F-4176-BFE8-0B6A1DFC0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43A4-656C-4349-B4DB-910263A06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7FADA-BE24-41C8-A699-CF3CA1235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A42F-F0C4-483F-B495-75DDC640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6346A-5732-478E-B68C-533603854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56160-74BF-48EF-AFA2-056316B00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4E410-54FC-48F7-95C1-40594D1ED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A41D6-A00E-4DDE-B083-693899834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6EC43-F40B-4B78-A92E-9F690C5A5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080C9-A9EE-4F10-962E-2C0154549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C99B-276A-44F6-AF27-FD1B89663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635A7-3A68-4531-85FE-D5D22E252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16AA-2EFD-40A6-877B-4183D9E08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E7230-0819-4966-A4BC-6D48B692C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E6A9-8EB4-4AE9-8484-845564FD2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97A6-47E3-457B-9EB2-61CF6D3A6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BF710-C38D-4027-922B-E8650940D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84789-DC53-4B82-BB73-83EB5CC20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BF674-42F1-400A-898E-728E7BDAD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0B5D0-0616-47F8-B2F2-96EF539A8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5ED3A-BAD1-4C2A-8A36-4729EF27D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D84C8-FA72-4E13-BF13-AF0638306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C9453-D5C8-4FD4-9BE8-F22411A3A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6F741-C4D9-4D32-B1B7-E08A25274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F351-9ECC-404B-BB11-FEEA1D11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0E3DE-9205-43E4-807D-A0E91ACA2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88E51-DC23-4580-9AFF-AAC51A45E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41DDA-8F8F-4E53-A091-B35D9BDE4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7C5AC-8FC2-41D7-A055-B59D4F784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BE687-8A11-4FE5-A0F5-D65ED035A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19EB5B-A840-4BA5-922F-ED92F985A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A6A7A3-9315-4118-963D-7F8E8640B5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A67CC8-D78B-4784-B19B-94699DE8C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66347-D46B-471F-9669-DEEFDBCE7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BF1D8-6C18-458C-873E-F5DF5CA27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28FB-70B6-46CE-A7D7-8E497A3D0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01F8D9-8DD3-4EB4-B95B-2383D1125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8DB30-C85C-48BE-9BEC-3788C4F36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481564-6629-45F9-B033-8253EAD18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219E3-8ADA-4918-B3EE-782DEA608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B7E04-70F6-4A95-8284-9ACCB2CCD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3FCD4-AB8B-4352-A2FD-E9C26DEFA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68D0B-9ACD-4879-B6B2-47FCDA986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D62B7B-DF2C-414E-A2A7-1B6079F85A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F92AFE-6552-450D-AE51-80E1B52F6B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6D4AD6-CC51-42CF-A565-F03789E0DF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CACE-DF6C-4D84-B8E2-403EC297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7720E-DA4B-4FB2-836D-7F2C7E8D0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19C10-ECC6-483D-B4B2-F744C189C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49981-22FA-4003-ACF1-EFD38D4CE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4021A-5785-4C6C-85D6-63E7DA714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25E4D-E1D2-45C1-84D8-6AADD6C40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5C636-7E43-433C-8A67-D71D117D4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2FCCC-1A2A-4CB7-8D5B-1018F63E9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69F4D-6AE7-482F-A08A-2AE58186D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6C240-7997-4D7E-9D31-2C681E4D6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7B4E62-234D-4804-9423-26095C27F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331C-EC94-4062-97CA-FB05A5EE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86345E-6AC1-4E7E-9C06-8B22E3294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DA91-096E-4774-BDDC-A00789D46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0AF8-8393-4F1F-8190-5FAB084C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B9B7-44CF-403E-8658-DC769189E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BC47-CE92-4B6A-984C-907626B70C68}"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77A4-F938-4EFE-9FFF-32FF570D857B}"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B55F-B3C5-49D2-9F39-554DFE2B3D4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F9C5-866D-4C25-8633-2F0B06DFE084}"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EEF3-9EFB-441B-9D37-5DCF39D3F8D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images.google.com/imgres?imgurl=http://www.newsdesk.umd.edu/vidterp/images/Prometh.jpg&amp;imgrefurl=http://www.newsdesk.umd.edu/vidterp/webcopy/Winners2009.cfm&amp;usg=__UkdJURDMlPCxlFHcB4uvMLh5KDs=&amp;h=311&amp;w=453&amp;sz=50&amp;hl=en&amp;start=52&amp;tbnid=dfKT6tQ3pZuWtM:&amp;tbnh=87&amp;tbnw=127&amp;prev=/images?q=promethean+board&amp;gbv=2&amp;ndsp=18&amp;hl=en&amp;sa=N&amp;start=36" TargetMode="External"/><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romethean_Planet"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Higher_order_thinking_skills"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ndex.php?title=Promethean_Ltd&amp;oldid=335082877"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prometheanplanet.com/" TargetMode="External"/><Relationship Id="rId3" Type="http://schemas.openxmlformats.org/officeDocument/2006/relationships/hyperlink" Target="http://www.prometheanworld.com/" TargetMode="External"/><Relationship Id="rId4" Type="http://schemas.openxmlformats.org/officeDocument/2006/relationships/hyperlink" Target="http://www.youtube.com/watch?v=mIUci7bj6Og" TargetMode="External"/><Relationship Id="rId5" Type="http://schemas.openxmlformats.org/officeDocument/2006/relationships/hyperlink" Target="http://teachingtechnology.suite101.com/article.cfm/interactive_white_board_promethean_applications"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n.wikipedia.org/wiki/Creator_(software)"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Activstudio" TargetMode="External"/><Relationship Id="rId2" Type="http://schemas.openxmlformats.org/officeDocument/2006/relationships/hyperlink" Target="http://en.wikipedia.org/wiki/Interactive_Whiteboard" TargetMode="External"/><Relationship Id="rId3" Type="http://schemas.openxmlformats.org/officeDocument/2006/relationships/hyperlink" Target="http://en.wikipedia.org/wiki/Formative_assessmen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59160" y="530280"/>
            <a:ext cx="552924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VELOPED BY:</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ATALIE MOORE</a:t>
            </a:r>
            <a:endParaRPr b="0" lang="en-US" sz="2200" spc="-1" strike="noStrike">
              <a:solidFill>
                <a:srgbClr val="000000"/>
              </a:solidFill>
              <a:latin typeface="Trebuchet MS"/>
            </a:endParaRPr>
          </a:p>
        </p:txBody>
      </p:sp>
      <p:pic>
        <p:nvPicPr>
          <p:cNvPr id="229" name="Content Placeholder 3" descr="http://t3.gstatic.com/images?q=tbn:dfKT6tQ3pZuWtM:http://www.newsdesk.umd.edu/vidterp/images/Prometh.jpg">
            <a:hlinkClick r:id="rId2"/>
          </p:cNvPr>
          <p:cNvPicPr/>
          <p:nvPr/>
        </p:nvPicPr>
        <p:blipFill>
          <a:blip r:embed="rId3"/>
          <a:stretch/>
        </p:blipFill>
        <p:spPr>
          <a:xfrm>
            <a:off x="2895480" y="4343400"/>
            <a:ext cx="28958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8" name=""/>
          <p:cNvSpPr txBox="1"/>
          <p:nvPr/>
        </p:nvSpPr>
        <p:spPr>
          <a:xfrm>
            <a:off x="457200" y="838080"/>
            <a:ext cx="7238880" cy="561816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Activstudio and Activprimary 3</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software upgrade introduced many new features including the ability for a user to author activities using over 300 </a:t>
            </a:r>
            <a:r>
              <a:rPr b="0" i="1" lang="en-US" sz="2000" spc="-1" strike="noStrike">
                <a:solidFill>
                  <a:srgbClr val="000000"/>
                </a:solidFill>
                <a:latin typeface="Arial"/>
                <a:ea typeface="Arial"/>
              </a:rPr>
              <a:t>actions</a:t>
            </a:r>
            <a:r>
              <a:rPr b="0" lang="en-US" sz="2000" spc="-1" strike="noStrike">
                <a:solidFill>
                  <a:srgbClr val="000000"/>
                </a:solidFill>
                <a:latin typeface="Arial"/>
                <a:ea typeface="Arial"/>
              </a:rPr>
              <a:t> and to connect with the wider online Promethean user community to share resources and lesson idea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Promethean Planet</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Arial"/>
                <a:ea typeface="Arial"/>
                <a:hlinkClick r:id="rId1"/>
              </a:rPr>
              <a:t>Promethean Planet</a:t>
            </a:r>
            <a:r>
              <a:rPr b="0" lang="en-US" sz="2000" spc="-1" strike="noStrike">
                <a:solidFill>
                  <a:srgbClr val="000000"/>
                </a:solidFill>
                <a:latin typeface="Arial"/>
                <a:ea typeface="Arial"/>
              </a:rPr>
              <a:t> is a free online user community for teachers to share lesson ideas, resources and set up projects with each other. Currently over 501,022 teachers are signed up. Teacher members can download lessons and additional resources to use with their Activboards. Currently over 16,573 resources are online and have been downloaded over 5,945,443 times by teacher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0"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ActivExpression Student Contribution Device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2007, Promethean launched ActivExpression, that allows students to provide open ended responses and content in response to questions and tasks set by the teacher. A combination of 'hot keys' and a cell phone type keypad allow students to </a:t>
            </a:r>
            <a:r>
              <a:rPr b="0" i="1" lang="en-US" sz="2000" spc="-1" strike="noStrike">
                <a:solidFill>
                  <a:srgbClr val="000000"/>
                </a:solidFill>
                <a:latin typeface="Arial"/>
                <a:ea typeface="Arial"/>
              </a:rPr>
              <a:t>text</a:t>
            </a:r>
            <a:r>
              <a:rPr b="0" lang="en-US" sz="2000" spc="-1" strike="noStrike">
                <a:solidFill>
                  <a:srgbClr val="000000"/>
                </a:solidFill>
                <a:latin typeface="Arial"/>
                <a:ea typeface="Arial"/>
              </a:rPr>
              <a:t> their ideas to the Activboard. The teacher can then </a:t>
            </a:r>
            <a:r>
              <a:rPr b="0" i="1" lang="en-US" sz="2000" spc="-1" strike="noStrike">
                <a:solidFill>
                  <a:srgbClr val="000000"/>
                </a:solidFill>
                <a:latin typeface="Arial"/>
                <a:ea typeface="Arial"/>
              </a:rPr>
              <a:t>seed</a:t>
            </a:r>
            <a:r>
              <a:rPr b="0" lang="en-US" sz="2000" spc="-1" strike="noStrike">
                <a:solidFill>
                  <a:srgbClr val="000000"/>
                </a:solidFill>
                <a:latin typeface="Arial"/>
                <a:ea typeface="Arial"/>
              </a:rPr>
              <a:t> these contributions to the ActivExpression Interactive Whiteboard software, where the words and ideas can be linked, reorganised or ranked in order to create new content. Confidence and Agreement, self-evaluation scales are designed to enable teachers to have learners apply </a:t>
            </a:r>
            <a:r>
              <a:rPr b="0" lang="en-US" sz="2000" spc="-1" strike="noStrike" u="sng">
                <a:solidFill>
                  <a:srgbClr val="ffde66"/>
                </a:solidFill>
                <a:uFillTx/>
                <a:latin typeface="Arial"/>
                <a:ea typeface="Arial"/>
                <a:hlinkClick r:id="rId1"/>
              </a:rPr>
              <a:t>higher order thinking skills</a:t>
            </a:r>
            <a:r>
              <a:rPr b="0" lang="en-US" sz="2000" spc="-1" strike="noStrike">
                <a:solidFill>
                  <a:srgbClr val="000000"/>
                </a:solidFill>
                <a:latin typeface="Arial"/>
                <a:ea typeface="Arial"/>
              </a:rPr>
              <a:t> in their lessons and stimulate discussion about the processes of learning.</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2"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9: ActivInspire</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he NECC education technology show in Washington in July 2009, Promethean released its new software. ActivInspire represents a complete rewrite of the Promethean software codebase. Key new features of ActivInspire includes support for more than one user to use the program at the same time (Dual User) and support for handheld responser systems (ActivExpression) that allow learners to send text and numeric contributions to the Interactive Whiteboard for assessment and collaboration purposes. Support for PC, MAC and Linux operating systems have also been introduced and the company has committed to provide a 'Personal Edition' free of charge to any educator regardless of the Interactive Whiteboard technology they use.</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4"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2009: ActivArena and Multi-User Upgrade</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combination of a software and firmware update along with new digital styli, enables most existing Promethean interactive whiteboards to be multi-user capable. This greatly extends the value of the technology to schools.”</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rebuchet MS"/>
              </a:rPr>
              <a:t>Promethean Ltd. (2009, December 31). In </a:t>
            </a:r>
            <a:r>
              <a:rPr b="0" i="1" lang="en-US" sz="2600" spc="-1" strike="noStrike">
                <a:solidFill>
                  <a:srgbClr val="ff0000"/>
                </a:solidFill>
                <a:latin typeface="Trebuchet MS"/>
              </a:rPr>
              <a:t>Wikipedia, The Free Encyclopedia</a:t>
            </a:r>
            <a:r>
              <a:rPr b="0" lang="en-US" sz="2600" spc="-1" strike="noStrike">
                <a:solidFill>
                  <a:srgbClr val="ff0000"/>
                </a:solidFill>
                <a:latin typeface="Trebuchet MS"/>
              </a:rPr>
              <a:t>. Retrieved 04:57, February 4, 2010, from </a:t>
            </a:r>
            <a:r>
              <a:rPr b="0" lang="en-US" sz="2600" spc="-1" strike="noStrike" u="sng">
                <a:solidFill>
                  <a:srgbClr val="ffde66"/>
                </a:solidFill>
                <a:uFillTx/>
                <a:latin typeface="Trebuchet MS"/>
                <a:hlinkClick r:id="rId1"/>
              </a:rPr>
              <a:t>http://en.wikipedia.org/w/index.php?title=Promethean_Ltd&amp;oldid=335082877</a:t>
            </a:r>
            <a:r>
              <a:rPr b="0" lang="en-US" sz="2600" spc="-1" strike="noStrike">
                <a:solidFill>
                  <a:srgbClr val="ff0000"/>
                </a:solidFill>
                <a:latin typeface="Trebuchet MS"/>
              </a:rPr>
              <a:t>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95120"/>
            <a:ext cx="7255080" cy="12733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2"/>
              </a:rPr>
              <a:t>WWW.PROMETHEANPLANET.COM</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3"/>
              </a:rPr>
              <a:t>http://www.prometheanworld.com/</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4"/>
              </a:rPr>
              <a:t>http://www.youtube.com/watch?v=mIUci7bj6Og</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5"/>
              </a:rPr>
              <a:t>http://teachingtechnology.suite101.com/article.cfm/interactive_white_board_promethean_applications</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dillon2.k12.sc.us/technology/integration/prometheanboards.asp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proteacher.net/discussions/forumdisplay.php?s=4287120010e564d3496066e02f39ef1a&amp;f=150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educationbusinessblog.com/2009/07/smart_board_vs_promethean_duel.html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en.wikipedia.org/wiki/Promethean_Ltd#Promethean_Products_Timeline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60360" y="291960"/>
            <a:ext cx="7564320" cy="117648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1 – </a:t>
            </a:r>
            <a:r>
              <a:rPr b="1" i="1" lang="en-US" sz="1800" spc="-1" strike="noStrike">
                <a:solidFill>
                  <a:srgbClr val="000000"/>
                </a:solidFill>
                <a:latin typeface="Trebuchet MS"/>
              </a:rPr>
              <a:t>Need</a:t>
            </a:r>
            <a:r>
              <a:rPr b="1" lang="en-US" sz="1800" spc="-1" strike="noStrike">
                <a:solidFill>
                  <a:srgbClr val="000000"/>
                </a:solidFill>
                <a:latin typeface="Trebuchet MS"/>
              </a:rPr>
              <a:t>:</a:t>
            </a:r>
            <a:r>
              <a:rPr b="0" lang="en-US" sz="1800" spc="-1" strike="noStrike">
                <a:solidFill>
                  <a:srgbClr val="000000"/>
                </a:solidFill>
                <a:latin typeface="Trebuchet MS"/>
              </a:rPr>
              <a:t> What problem or need existed that gave rise to your innovation?</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2 – </a:t>
            </a:r>
            <a:r>
              <a:rPr b="1" i="1" lang="en-US" sz="1800" spc="-1" strike="noStrike">
                <a:solidFill>
                  <a:srgbClr val="000000"/>
                </a:solidFill>
                <a:latin typeface="Trebuchet MS"/>
              </a:rPr>
              <a:t>Research</a:t>
            </a:r>
            <a:r>
              <a:rPr b="1" lang="en-US" sz="1800" spc="-1" strike="noStrike">
                <a:solidFill>
                  <a:srgbClr val="000000"/>
                </a:solidFill>
                <a:latin typeface="Trebuchet MS"/>
              </a:rPr>
              <a:t>:</a:t>
            </a:r>
            <a:r>
              <a:rPr b="0" lang="en-US" sz="1800" spc="-1" strike="noStrike">
                <a:solidFill>
                  <a:srgbClr val="000000"/>
                </a:solidFill>
                <a:latin typeface="Trebuchet MS"/>
              </a:rPr>
              <a:t> What research organization or people developed a solution to this problem or need? What were their findings? Who were the “lead thinkers" for this innovation, and how did they convince a manufacturer to produce it?</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3 – </a:t>
            </a:r>
            <a:r>
              <a:rPr b="1" i="1" lang="en-US" sz="1800" spc="-1" strike="noStrike">
                <a:solidFill>
                  <a:srgbClr val="000000"/>
                </a:solidFill>
                <a:latin typeface="Trebuchet MS"/>
              </a:rPr>
              <a:t>Development</a:t>
            </a:r>
            <a:r>
              <a:rPr b="1" lang="en-US" sz="1800" spc="-1" strike="noStrike">
                <a:solidFill>
                  <a:srgbClr val="000000"/>
                </a:solidFill>
                <a:latin typeface="Trebuchet MS"/>
              </a:rPr>
              <a:t>:</a:t>
            </a:r>
            <a:r>
              <a:rPr b="0" lang="en-US" sz="1800" spc="-1" strike="noStrike">
                <a:solidFill>
                  <a:srgbClr val="000000"/>
                </a:solidFill>
                <a:latin typeface="Trebuchet MS"/>
              </a:rPr>
              <a:t> What problems did your innovation encounter in the development process? Who was the intended audience for your innovation?</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4 – </a:t>
            </a:r>
            <a:r>
              <a:rPr b="1" i="1" lang="en-US" sz="1800" spc="-1" strike="noStrike">
                <a:solidFill>
                  <a:srgbClr val="000000"/>
                </a:solidFill>
                <a:latin typeface="Trebuchet MS"/>
              </a:rPr>
              <a:t>Commercialization</a:t>
            </a:r>
            <a:r>
              <a:rPr b="1" lang="en-US" sz="1800" spc="-1" strike="noStrike">
                <a:solidFill>
                  <a:srgbClr val="000000"/>
                </a:solidFill>
                <a:latin typeface="Trebuchet MS"/>
              </a:rPr>
              <a:t>:</a:t>
            </a:r>
            <a:r>
              <a:rPr b="0" lang="en-US" sz="1800" spc="-1" strike="noStrike">
                <a:solidFill>
                  <a:srgbClr val="000000"/>
                </a:solidFill>
                <a:latin typeface="Trebuchet MS"/>
              </a:rPr>
              <a:t> Describe the production, manufacturing, packaging, marketing, and distribution of your innovation.</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450720" y="317520"/>
            <a:ext cx="7255080" cy="1150920"/>
          </a:xfrm>
          <a:prstGeom prst="rect">
            <a:avLst/>
          </a:prstGeom>
          <a:ln w="0">
            <a:noFill/>
          </a:ln>
        </p:spPr>
      </p:pic>
      <p:pic>
        <p:nvPicPr>
          <p:cNvPr id="233" name="Content Placeholder 3" descr="students.jpg"/>
          <p:cNvPicPr/>
          <p:nvPr/>
        </p:nvPicPr>
        <p:blipFill>
          <a:blip r:embed="rId2"/>
          <a:stretch/>
        </p:blipFill>
        <p:spPr>
          <a:xfrm>
            <a:off x="1295280" y="1981080"/>
            <a:ext cx="510552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0720" y="317520"/>
            <a:ext cx="7255080" cy="1150920"/>
          </a:xfrm>
          <a:prstGeom prst="rect">
            <a:avLst/>
          </a:prstGeom>
          <a:ln w="0">
            <a:noFill/>
          </a:ln>
        </p:spPr>
      </p:pic>
      <p:pic>
        <p:nvPicPr>
          <p:cNvPr id="235" name="Content Placeholder 3" descr="STUDENTS RESEARCHING.jpg"/>
          <p:cNvPicPr/>
          <p:nvPr/>
        </p:nvPicPr>
        <p:blipFill>
          <a:blip r:embed="rId2"/>
          <a:stretch/>
        </p:blipFill>
        <p:spPr>
          <a:xfrm>
            <a:off x="762120" y="1905120"/>
            <a:ext cx="5562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317520"/>
            <a:ext cx="7255080" cy="1150920"/>
          </a:xfrm>
          <a:prstGeom prst="rect">
            <a:avLst/>
          </a:prstGeom>
          <a:ln w="0">
            <a:noFill/>
          </a:ln>
        </p:spPr>
      </p:pic>
      <p:pic>
        <p:nvPicPr>
          <p:cNvPr id="237" name="Content Placeholder 3" descr="http://www.btowstore.com/WebRoot/BT2/Shops/Store2_002E_Shop1656/4547/52CA/6DFA/C3D2/C87E/AC10/3D2A/2808/activ_hub.jpg"/>
          <p:cNvPicPr/>
          <p:nvPr/>
        </p:nvPicPr>
        <p:blipFill>
          <a:blip r:embed="rId2"/>
          <a:stretch/>
        </p:blipFill>
        <p:spPr>
          <a:xfrm>
            <a:off x="1676520" y="2286000"/>
            <a:ext cx="4724280" cy="3733920"/>
          </a:xfrm>
          <a:prstGeom prst="rect">
            <a:avLst/>
          </a:prstGeom>
          <a:ln w="0">
            <a:noFill/>
          </a:ln>
        </p:spPr>
      </p:pic>
      <p:sp>
        <p:nvSpPr>
          <p:cNvPr id="238" name="TextBox 4"/>
          <p:cNvSpPr/>
          <p:nvPr/>
        </p:nvSpPr>
        <p:spPr>
          <a:xfrm>
            <a:off x="2057400" y="2209680"/>
            <a:ext cx="388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h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17520"/>
            <a:ext cx="7711920" cy="11509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elcome to Promethean Plane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methean’s free online community designed to provide Activclassroom teachers around the world the ability to share new and innovative lessons, access a wide variety of professional development materials, and connect with fellow Activclassroom teachers from around the Plane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7520" y="291960"/>
            <a:ext cx="7527960" cy="117648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1997: PandA Software</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ndA (an acronym for ‘Presentations and Annotations’) which was first released in March 1997. PandA was based loosely on the multimedia presentation application </a:t>
            </a:r>
            <a:r>
              <a:rPr b="0" lang="en-US" sz="2400" spc="-1" strike="noStrike" u="sng">
                <a:solidFill>
                  <a:srgbClr val="ffde66"/>
                </a:solidFill>
                <a:uFillTx/>
                <a:latin typeface="Arial"/>
                <a:ea typeface="Arial"/>
                <a:hlinkClick r:id="rId2"/>
              </a:rPr>
              <a:t>Creator</a:t>
            </a:r>
            <a:r>
              <a:rPr b="0" lang="en-US" sz="2400" spc="-1" strike="noStrike">
                <a:solidFill>
                  <a:srgbClr val="000000"/>
                </a:solidFill>
                <a:latin typeface="Arial"/>
                <a:ea typeface="Arial"/>
              </a:rPr>
              <a:t>.</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1: Activstudio 1.0</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version of </a:t>
            </a:r>
            <a:r>
              <a:rPr b="0" lang="en-US" sz="2400" spc="-1" strike="noStrike" u="sng">
                <a:solidFill>
                  <a:srgbClr val="ffde66"/>
                </a:solidFill>
                <a:uFillTx/>
                <a:latin typeface="Arial"/>
                <a:ea typeface="Arial"/>
                <a:hlinkClick r:id="rId1"/>
              </a:rPr>
              <a:t>Activstudio</a:t>
            </a:r>
            <a:r>
              <a:rPr b="0" lang="en-US" sz="2400" spc="-1" strike="noStrike">
                <a:solidFill>
                  <a:srgbClr val="000000"/>
                </a:solidFill>
                <a:latin typeface="Arial"/>
                <a:ea typeface="Arial"/>
              </a:rPr>
              <a:t> was released in the UK in February 2001. This version replaced and expanded upon the features of PandA.</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1: Activote Integrated Learner Response System</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ethean integrated its Response Devices (Activote) with the </a:t>
            </a:r>
            <a:r>
              <a:rPr b="0" lang="en-US" sz="2400" spc="-1" strike="noStrike" u="sng">
                <a:solidFill>
                  <a:srgbClr val="ffde66"/>
                </a:solidFill>
                <a:uFillTx/>
                <a:latin typeface="Arial"/>
                <a:ea typeface="Arial"/>
                <a:hlinkClick r:id="rId2"/>
              </a:rPr>
              <a:t>Interactive Whiteboard</a:t>
            </a:r>
            <a:r>
              <a:rPr b="0" lang="en-US" sz="2400" spc="-1" strike="noStrike">
                <a:solidFill>
                  <a:srgbClr val="000000"/>
                </a:solidFill>
                <a:latin typeface="Arial"/>
                <a:ea typeface="Arial"/>
              </a:rPr>
              <a:t> and associated software in order to allow the teacher carry out both preprepared and ad-hoc </a:t>
            </a:r>
            <a:r>
              <a:rPr b="0" lang="en-US" sz="2400" spc="-1" strike="noStrike" u="sng">
                <a:solidFill>
                  <a:srgbClr val="ffde66"/>
                </a:solidFill>
                <a:uFillTx/>
                <a:latin typeface="Arial"/>
                <a:ea typeface="Arial"/>
                <a:hlinkClick r:id="rId3"/>
              </a:rPr>
              <a:t>formative assessment</a:t>
            </a:r>
            <a:r>
              <a:rPr b="0" lang="en-US" sz="2400" spc="-1" strike="noStrike">
                <a:solidFill>
                  <a:srgbClr val="000000"/>
                </a:solidFill>
                <a:latin typeface="Arial"/>
                <a:ea typeface="Arial"/>
              </a:rPr>
              <a:t> during the lesson itself in order to help the teacher immediately direct remedial instruction.</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6" name=""/>
          <p:cNvSpPr txBox="1"/>
          <p:nvPr/>
        </p:nvSpPr>
        <p:spPr>
          <a:xfrm>
            <a:off x="457200" y="685440"/>
            <a:ext cx="7238880" cy="57704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Activprimary</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rivative application Activprimary, (similar in functionality but offering an interface aimed towards the younger learner) was released for the primary education sector in January 2004.</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 Activboard +2 Adjustable Height Interactive Whiteboard Syste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lly adjustable, integrated Interactive Whiteboard system that could be mounted on a wall. The +2 system does not require a ceiling mounted projector and instead mounts a specially designed short-throw projector on an integrated boom arm. As well as greatly reducing the disruption, time and cost of installation, the system can move up and down allowing users of all ages and sizes to reach all areas of the board. The system also greatly reduces distracting shadow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3:52:33Z</dcterms:created>
  <dc:creator>Natalie</dc:creator>
  <dc:description/>
  <dc:language>en-US</dc:language>
  <cp:lastModifiedBy>Natalie</cp:lastModifiedBy>
  <dcterms:modified xsi:type="dcterms:W3CDTF">2010-02-15T04:35:08Z</dcterms:modified>
  <cp:revision>36</cp:revision>
  <dc:subject/>
  <dc:title>The Promethean Board</dc:title>
</cp:coreProperties>
</file>